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F13-BF24-4086-8F07-5A89FBA8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B23-07B2-4B90-9BDE-8640B9F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84108-7CDB-427C-919E-82A48FF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538A0-AED1-4E66-AC55-DAF0074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C1D5-9737-4D08-A285-4298F63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23241-690E-4B6F-8C20-B73FF1F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2D94B-9395-4B80-86F1-60A3A836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189AD-BC72-4E75-97D5-87D4AD36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ED684-607F-4E71-9401-483810B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2AEF5-0A04-42D0-9A7F-EB3912F3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65741-F216-48BF-ACC6-4FCF21B8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4350-E4E7-475F-854B-86A4D4BE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00D-125E-4BBE-A111-A0360ABA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8EF30-36D8-42B0-8F8B-FEA2AB5F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69282-B17D-4C26-9FD2-C6EE9B47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23318-352A-4FCF-A872-8DBC52B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5995B-618E-4FF4-A6D8-FEDE0E5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319E1-A3A5-4C26-97D0-21675783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9315A-9C35-4C0A-9081-25E9C24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F193A-3A3D-4BDE-97C4-41CD262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1731F-6837-461D-8B31-A826B25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33E17-E730-4E47-84B3-0307897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F81A8-12E4-444F-8AE8-EDF63C52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CA4-2952-4C9E-A37C-41C0D44B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FF55C-6918-42E0-BAC4-71F2688D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1A890-B4C0-4A94-8B2B-9A711A0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6206-7E83-4E19-B9AC-15AFA687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6AAD-DAFE-49EB-BF62-BD6D642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C2ADA-D37B-4C78-BD67-6999BA09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D6B8A-4C46-4A9B-9EAD-43E580B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3AFAB-4AE7-48C0-9ACF-2C3B350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AC8F-DC31-4792-9870-20692E9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A11A3-04D8-4E69-AF3C-5EE00E3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8DDE1-1FE8-4036-A1CD-C012E71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4B9D-9DF2-4213-8547-6CAA08AD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F03CD-C4AD-4788-8B6A-8082750E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C1FF-B02E-4ED8-8CD1-BA95F641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8511-74F9-4113-A830-10080CDC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CA2B0-05C5-470E-846A-EF28855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52A71-5015-462C-95BC-ACFB8543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D8F93-4A87-4CF7-A612-6C73543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90656-1DBD-4A19-8F71-1D91D52A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56A88-4465-461B-8BDD-7FC3E23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AB81C-3EF1-4EFD-93F0-3F00901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78EA3-2C30-4C1A-8E7C-4947BB7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4732-9DAC-4C88-B2F1-D510C8C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7FB53-B189-43D1-8269-103DAC6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EBFF9-0010-4F01-8C18-231265D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9D20A-2905-4256-A07C-77A640F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DFD62-05FB-4333-8D34-A1370340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86E46-C06E-436C-8F90-1E850F39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A9D8-0381-4445-B5FA-1841E464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A0EB-6394-479E-8EA0-068D7CD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7BF2-A31E-4117-ADFF-459325A9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A25-2B43-4294-A8C3-170701D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425-A2AF-49F6-A4E0-832C3B2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C10-BFAC-4D72-A5AA-B05E05E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5559-8355-4C0B-BF67-3EDAE2A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7A4-D961-4E2E-9953-7C467AC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135B-982B-4E10-9AE0-7F2123B8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69E-DF26-4883-A01A-5D1742ED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881-61ED-4A86-9B9A-8F6DADF9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BAF5-ECCB-4CA6-828E-07F037DE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6B07-0A4E-429B-99F3-B06FB812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E715-CF49-4DA3-A8FE-AAABA66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B9C8-2BEA-4C82-A4C8-CE0F8AC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4484-6F54-4A79-A026-05F71B46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8EE-1215-4EB3-9750-1765ADC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4919-5425-4437-82FE-8E4F5A67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42DD-31EC-4EC8-ABE9-BA08D3D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0922-1B5C-4D87-B156-35219B8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ABD6-79FD-49A6-946E-99F6165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824D-0358-4340-8115-C20C505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EFDD-B26F-4375-8096-0FBBC68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6846-E5EB-4E32-A85A-256E0EFB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2168-D8B6-41E2-858A-65795416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7C58-B8FD-4AF2-AE5C-F84E338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2259-16C7-42CD-93E5-AF9A755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050-4BC0-4375-923D-F10AED7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D455-D6DD-4B18-88EE-7DD42AD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3761-DBAE-49A8-B9B0-49539D1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49F3-D3AD-4623-A6CA-B58A8B3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0B17-4017-4AB2-8591-39E82BA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EB1C-B816-48C0-A991-67EAA5B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2429-C4CA-4BA0-9BBC-9009CAC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671F-3208-4A18-9C5A-FEEF3F7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82CE-DF3D-49CE-B551-FD02F74E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3E5B-61D6-4E85-868F-186495DB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BBB5-E4E4-43D6-B4AF-9617C6C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BAC-C8E7-4037-877C-E760A970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40B3-084C-4B4D-BCBD-07E6AA2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5F0C-DB8E-4C0E-AE66-6ACAB814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231A-D97A-4917-AFF5-8ABEE87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7A52-50F8-4221-A630-CF610EE8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43A6-CE0E-4FB6-96F2-D0211DB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CB07-4BA9-496B-BE03-5D70167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DB79-742C-4A5B-A90A-712771A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C676-070B-4396-A3C9-C6ADD4A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A40F-E571-4F6C-9866-671719C9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0614-01CA-4A7D-9440-A7CD828E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57E-0A2C-4392-B727-B917C931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B983-A722-404F-BB82-F2A3C815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F1BA-2E53-4D79-96BC-6FD3D097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7167-4984-4A29-BD4D-75CDBB7D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C79D-0349-4ABB-A9A9-964BBD0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6BE2-06A2-4E0B-BAB0-D88D4D1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E20A-640A-4AF3-B59D-CCA1AC92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D414-0A05-4E83-81FB-5E3B1058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D3E8-7007-4CB9-9C3C-004E693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99CD7-4109-44A7-933E-5413424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5C3F-D32D-456E-91F0-8314EE6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B17-E5DB-4509-8883-D51B953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5DBD-5A1F-45C4-ABB1-DCFA1C9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4D5D-A003-4941-BBD9-98381B90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5451-CFB0-4264-9AFB-C3E212F6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FE73-9EAB-40D4-8141-0C9C400D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52ED-0BBA-445D-930C-F8B1D5DF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34E4-11C5-4AF0-A08F-7169C47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5E12-7881-4D05-96BB-6FEBB63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CB39-B726-4394-A54A-D8D3526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1BAD-5AF1-4631-8396-26078273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7348-92E9-41BD-8D8D-789BF47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1F3-EF3A-4F75-9B68-43EE91A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DD9B-DD9F-4FDC-A0E3-D192E9D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4716-C14A-4A56-9261-CBE6426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6645-7D8E-4E95-9267-823BEAC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5CFD-34E5-4BE9-B4EF-B677C568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0E9F3-9FDB-45FA-A165-04E84D10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0C63-621F-4507-A58D-FE992850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668A-A8F9-4CF3-8E0A-DE17697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D239B-F477-4B25-B5B4-FC6008A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5C7A-3ED3-4B85-BC07-E5591F0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6357-363D-47CA-B849-5921BC5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11C-B87A-4590-9001-9257A6A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7AA9-D72A-46E7-8D91-EFA39C7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C54B-2E76-4D74-8B80-AD5C79E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888F-C111-47D5-9090-CBC3C4C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EA7C-CAD2-487E-B767-203B0D8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5CA1-086C-4EFA-8EDF-7D2C20A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18EA-66C9-46EE-A469-93388E22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8775D-DBCA-4DD4-BC8B-5DDFD6ED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CAF00-6663-430C-A08A-EF5D23D4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1C935-55C7-4945-A999-13100F4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0E3C-532F-4354-A21D-A00A05A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F87-8660-463D-BDBE-581E6B47BEF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A293-83E0-4719-8A67-FBF76740BFF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16F1-FF2D-4ADC-9F92-A7FD9A2FC9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732-28DE-418D-A166-FAB0DD9419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9CD1-5514-453C-AAB9-DDD272EAC2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80A-AF9E-4FA4-AAE5-07A0970282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504-1543-4E83-A8D9-A3F1C7CFD57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1956-3742-458A-BB0F-659A27CA8AA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B13-1A36-426A-81CF-29D6DB07C91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A744-F3BA-4904-821B-94DF7AB5F9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A19-F5F1-412C-BDAC-7033E6C3453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E3D2-7BD8-48A2-A65E-79F1A94E141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20 Ježiš prišiel hriešnych spas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prišiel hriešnych spas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iť ťarchy vín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e ťa náruč otvoren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by hriech t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jak šarlát dvakrát farben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ho rád za biele rúc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 len Pánu Ježišov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voľ si lepší d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riechy sníme, radosť vrát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7:22Z</dcterms:modified>
  <cp:revision>21</cp:revision>
  <dc:subject/>
  <dc:title>Je veľký náš Pán, on slávy je Kráľ Nech do všetkých strán  spev vrúcnych znie chvál.</dc:title>
</cp:coreProperties>
</file>